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87E-A034-42A8-BBBC-53160665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2F9-0432-40E6-A315-925B759B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0B6-925A-414B-A360-501F8D49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393-6DA0-4F7A-85A6-DF2D69FC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EB6-10FD-42EE-8033-F7E84760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542-334F-4B1F-A37C-62252BCD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DF6-EF3F-4DF4-A454-DDAA675A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BAF-AAEB-49E2-8E8C-0CC2C760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68E-0455-4BD9-92EB-78612814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D87-04C1-404B-B29E-DC456721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C66-2A39-4877-9514-B4C58414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5AF-BCCB-4CA3-9676-17060378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FAC9-DF46-4458-828B-4CCFCD879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f/Horloge_Fleurie_Geneve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a/La_Rade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8/Geneva_airport_from_air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2276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Hobo Std"/>
              </a:rPr>
              <a:t>SUISSE – GENÉ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549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Hobo Std"/>
              </a:rPr>
              <a:t>MON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941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68360" y="4508640"/>
            <a:ext cx="38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Palais des 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2997360"/>
            <a:ext cx="4175280" cy="3128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4932360" y="206064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Cathédrale de San Ped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Fichier:Horloge Fleurie Gene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557360"/>
            <a:ext cx="4599000" cy="316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95280" y="5229360"/>
            <a:ext cx="417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rloge fleur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219640" y="476280"/>
            <a:ext cx="3405240" cy="520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5435640" y="5927760"/>
            <a:ext cx="39592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t d'eau de Genè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3382920" cy="250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348000" cy="345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0000" y="3716280"/>
            <a:ext cx="3529080" cy="2691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816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611280" y="5493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Hobo Std"/>
              </a:rPr>
              <a:t>SITU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Hobo Std"/>
              </a:rPr>
              <a:t>SPAT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5399280" cy="51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6156360" y="1557360"/>
            <a:ext cx="266364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athédrale de San Pedr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ardin à l'anglaise et horloge fleuri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et d'eau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ardin botaniqu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alais des Nation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. Hôtel de la Pa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762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Plan de Gené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333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Hobo Std"/>
              </a:rPr>
              <a:t>CLI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Fichier:La Rad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4176720" cy="277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42920" y="4437000"/>
            <a:ext cx="2925720" cy="195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076720" y="1989000"/>
            <a:ext cx="3635640" cy="363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333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Hobo Std"/>
              </a:rPr>
              <a:t>MONNA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065400" cy="367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2276640"/>
            <a:ext cx="4962600" cy="3300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54936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Hobo Std"/>
              </a:rPr>
              <a:t>REPAS TYP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chier:Roesti.jpg"/>
          <p:cNvPicPr/>
          <p:nvPr/>
        </p:nvPicPr>
        <p:blipFill>
          <a:blip r:embed="rId1"/>
          <a:stretch/>
        </p:blipFill>
        <p:spPr>
          <a:xfrm>
            <a:off x="539640" y="1125360"/>
            <a:ext cx="3600720" cy="1989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3970440" cy="234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Fichier:Marmite-Escalade.jpg"/>
          <p:cNvPicPr/>
          <p:nvPr/>
        </p:nvPicPr>
        <p:blipFill>
          <a:blip r:embed="rId3"/>
          <a:stretch/>
        </p:blipFill>
        <p:spPr>
          <a:xfrm>
            <a:off x="4932360" y="1844640"/>
            <a:ext cx="3578400" cy="410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4932360" y="6093000"/>
            <a:ext cx="37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LONGE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28464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R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1125360"/>
            <a:ext cx="41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MITE DE L´ESCAL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Fichier:Geneva airport from ai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4889520" cy="3025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537080" cy="288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39640" y="476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Hobo Std"/>
              </a:rPr>
              <a:t>TRAN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Fichier:Gare Cornavin.JPG"/>
          <p:cNvPicPr/>
          <p:nvPr/>
        </p:nvPicPr>
        <p:blipFill>
          <a:blip r:embed="rId1"/>
          <a:stretch/>
        </p:blipFill>
        <p:spPr>
          <a:xfrm>
            <a:off x="2268360" y="1341360"/>
            <a:ext cx="4969080" cy="397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3:19:51Z</dcterms:created>
  <dc:creator>Colossus User</dc:creator>
  <dc:description/>
  <dc:language>en-US</dc:language>
  <cp:lastModifiedBy>Colossus User</cp:lastModifiedBy>
  <dcterms:modified xsi:type="dcterms:W3CDTF">2011-04-12T01:13:24Z</dcterms:modified>
  <cp:revision>19</cp:revision>
  <dc:subject/>
  <dc:title>Diapositiva 1</dc:title>
</cp:coreProperties>
</file>